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3912-43F0-4F84-A0EE-57705894246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8682-B7D9-4D71-A32D-0CAA3DC0051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BD89-77D9-4FBE-A76B-9BE6C06435A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9343-4DCD-4C69-B8FF-0E9383C2A25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6FAE-F677-4F4D-86A2-C33F0B1FC0C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20CA-7DFB-42F6-B0FF-E8BB7C9C13E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6049-8B88-46C9-ACE6-5C69D362E79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85CB-F899-45E9-AEF5-2ADE65A299F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5929-6557-4A6B-8ABA-F609875A4D8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AFBC-4F59-4E97-AE83-9CE7D6C537C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D1C7-E17F-4615-9B4F-E49DE4B0238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176D-90CD-452D-B501-A3EDB3C6437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B976-64E1-4BE1-A245-0D6564B0845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DBAF-030E-4E16-89DE-D4800D92B95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ACE8-5D78-4E3A-8D67-1E56DEF4FBA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2150-18BB-48D3-9703-F8873D9E9B3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7E1B-4410-42F5-8222-A8D54D74EAD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find service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method to find assistance getting back to work is to look at the Ontario website under Services Where You Live.  You can enter in the name of the town or city closest to you and even select the type of program you are seeking  i.e. Job Finding club.  The website will give you a list of service providers, their location, contact number and a description of thei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1097-6E07-4BC3-B1FA-46799F1CB44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BFEB-A9E3-4B89-8E7B-0F6459AE7BA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0F6E-B703-436B-A9EB-90DAF7D80D0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84F6-56B3-48E2-9AC7-176D8D3E483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4CE57-1D1C-4450-B2B7-76597BB2E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78D46-CA2E-4031-A021-9C29BC13D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778B4-75CF-4567-B7B8-E4C342F65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872FA-6DD5-473E-B2D5-382027A5E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6ED25-3FBC-4378-AB29-A96C9D68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A8CE0-DEF0-4BE3-99FB-0DD38C0A9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B6571-D47C-470C-8202-916353D6C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862E2-AF7A-47D6-B82A-0DCAED645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9227B-4769-4B68-94DB-D7F9A8435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BB035-9B3B-4E3D-BBBA-E41DC48A9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2631-919E-45DE-A81B-01BF40036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0B6F0-E048-41A7-BF33-0BBF95813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052C-4FDB-414F-8D40-B12931149BB9}"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e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Eastern-markers"/>
          <p:cNvPicPr/>
          <p:nvPr/>
        </p:nvPicPr>
        <p:blipFill>
          <a:blip r:embed="rId1"/>
          <a:stretch/>
        </p:blipFill>
        <p:spPr>
          <a:xfrm>
            <a:off x="-57240" y="1147680"/>
            <a:ext cx="9258480" cy="609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oues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West"/>
          <p:cNvPicPr/>
          <p:nvPr/>
        </p:nvPicPr>
        <p:blipFill>
          <a:blip r:embed="rId1"/>
          <a:stretch/>
        </p:blipFill>
        <p:spPr>
          <a:xfrm>
            <a:off x="412920" y="1366920"/>
            <a:ext cx="8731080" cy="5038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2"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86"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88"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92"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4"/>
          <p:cNvGraphicFramePr/>
          <p:nvPr/>
        </p:nvGraphicFramePr>
        <p:xfrm>
          <a:off x="1981080" y="533520"/>
          <a:ext cx="5486400" cy="5478480"/>
        </p:xfrm>
        <a:graphic>
          <a:graphicData uri="http://schemas.openxmlformats.org/presentationml/2006/ole">
            <p:oleObj r:id="rId1" spid="">
              <p:embed/>
              <p:pic>
                <p:nvPicPr>
                  <p:cNvPr id="98"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entre ville d’Ottaw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Downtown-markers"/>
          <p:cNvPicPr/>
          <p:nvPr/>
        </p:nvPicPr>
        <p:blipFill>
          <a:blip r:embed="rId1"/>
          <a:stretch/>
        </p:blipFill>
        <p:spPr>
          <a:xfrm>
            <a:off x="179280" y="1147680"/>
            <a:ext cx="8640720" cy="545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su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South-markers"/>
          <p:cNvPicPr/>
          <p:nvPr/>
        </p:nvPicPr>
        <p:blipFill>
          <a:blip r:embed="rId1"/>
          <a:stretch/>
        </p:blipFill>
        <p:spPr>
          <a:xfrm>
            <a:off x="412920" y="1366920"/>
            <a:ext cx="8407080" cy="523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4:52:27Z</dcterms:modified>
  <cp:revision>12</cp:revision>
  <dc:subject/>
  <dc:title>Programmes et services  d’emploi  de l’Ontario</dc:title>
</cp:coreProperties>
</file>